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2B15BE-3FEB-43E9-A35F-AB325AFBB80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8BF4F8-44C5-4BB0-89C1-ABAC89A28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B8485F-1B77-45BD-A53C-A88B4A40B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CBF99E-8A0B-480A-AB1F-C6FF6E6FA5C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6EB5A4-FC29-4417-A8FD-C9B266AFC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8BD3DF-C046-4A6D-AAF4-F3522CCC7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AC7889-421E-49C4-BA14-5769E0D3C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694060-C02E-4C40-98AE-E9AEEDD77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8816DB-4641-435F-98B9-4E03E2346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DD5879-AA7A-49FE-B8EA-1E19EB9E6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13CAA0-7F65-465C-AFB8-EAECAAFCB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A39DA5-2551-49E3-AD63-4810EC6BA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110ED-0C6B-4F58-A1D3-5C409AC57C1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一章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绪论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学习目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述外科护理学的概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简述外科学和外科护理学的发展过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描述外科学与外科护理学之间的关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应用外科护理学的学习方法学习本课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外科学及外科护理学的范畴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外科学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urgery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医学科学的一个重要组成部分，其范畴在医学的历史发展中逐渐形成，并不断变化发展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是外科工作的重要组成部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外科学及外科护理学的范畴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外科护理学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urgical nursin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护理学的一大分支，是研究外科患者身心康复的护理方法及预防保健的一门学科，主要包括医学基础理论、外科学的基础理论、护理学基础理论及技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外科学和外科护理学的发展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9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世纪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年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消毒灭菌和无菌技术、止血输血、麻醉止痛的问世，解决了长期困扰外科的感染、出血和疼痛等问题，成为外科学的三大里程碑，是外科学进入现代外科学的标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外科学和外科护理学的发展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9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世纪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年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南丁格尔在克里米亚战场上，通过清洁、消毒、换药、包扎伤口、改善休养环境等措施使伤员死亡率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0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下降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.2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首次以无可辩驳的事实向社会显示了护理在外科发展中的重要作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如何学习外科护理学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以现代的护理观为指导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贯彻整体护理的思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运用科学的护理程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是科学也是艺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如何学习外科护理学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掌握外科护理学的特点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外科范畴疾病的病情复杂多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外科急诊多、抢救多，卧床患者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应树立高度的责任心，勤于思考，及时有效地挽救患者的生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如何学习外科护理学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论联系实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既要重视基本理论、基本知识和基本技能，又要注意知识的更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7-24T06:58:46Z</dcterms:modified>
  <cp:revision>90</cp:revision>
  <dc:subject/>
  <dc:title>内科护理学</dc:title>
</cp:coreProperties>
</file>